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21388388" cy="30279975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9200" y="1207800"/>
            <a:ext cx="192484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77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1924848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069200" y="16257960"/>
            <a:ext cx="1924848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9200" y="1207800"/>
            <a:ext cx="192484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77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312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932480" y="7085160"/>
            <a:ext cx="939312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9200" y="16257960"/>
            <a:ext cx="939312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0932480" y="16257960"/>
            <a:ext cx="939312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200" y="1207800"/>
            <a:ext cx="192484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77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619776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77280" y="7085160"/>
            <a:ext cx="619776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85360" y="7085160"/>
            <a:ext cx="619776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69200" y="16257960"/>
            <a:ext cx="619776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7577280" y="16257960"/>
            <a:ext cx="619776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4085360" y="16257960"/>
            <a:ext cx="619776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9200" y="1207800"/>
            <a:ext cx="192484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77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9200" y="7085160"/>
            <a:ext cx="19248480" cy="175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9200" y="1207800"/>
            <a:ext cx="192484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77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19248480" cy="175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9200" y="1207800"/>
            <a:ext cx="192484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77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3120" cy="175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0932480" y="7085160"/>
            <a:ext cx="9393120" cy="175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200" y="1207800"/>
            <a:ext cx="192484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77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69200" y="1207800"/>
            <a:ext cx="19248480" cy="23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9200" y="1207800"/>
            <a:ext cx="192484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77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312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0932480" y="7085160"/>
            <a:ext cx="9393120" cy="175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9200" y="16257960"/>
            <a:ext cx="939312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200" y="1207800"/>
            <a:ext cx="192484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77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069200" y="7085160"/>
            <a:ext cx="19248480" cy="175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9200" y="1207800"/>
            <a:ext cx="192484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77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3120" cy="175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0932480" y="7085160"/>
            <a:ext cx="939312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932480" y="16257960"/>
            <a:ext cx="939312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9200" y="1207800"/>
            <a:ext cx="192484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77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312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0932480" y="7085160"/>
            <a:ext cx="939312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9200" y="16257960"/>
            <a:ext cx="1924848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9200" y="1207800"/>
            <a:ext cx="192484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77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1924848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9200" y="16257960"/>
            <a:ext cx="1924848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200" y="1207800"/>
            <a:ext cx="192484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77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312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932480" y="7085160"/>
            <a:ext cx="939312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9200" y="16257960"/>
            <a:ext cx="939312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0932480" y="16257960"/>
            <a:ext cx="939312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9200" y="1207800"/>
            <a:ext cx="192484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77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619776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77280" y="7085160"/>
            <a:ext cx="619776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85360" y="7085160"/>
            <a:ext cx="619776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9200" y="16257960"/>
            <a:ext cx="619776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7577280" y="16257960"/>
            <a:ext cx="619776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14085360" y="16257960"/>
            <a:ext cx="619776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9200" y="1207800"/>
            <a:ext cx="192484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77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19248480" cy="175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9200" y="1207800"/>
            <a:ext cx="192484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77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3120" cy="175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0932480" y="7085160"/>
            <a:ext cx="9393120" cy="175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200" y="1207800"/>
            <a:ext cx="192484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77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069200" y="1207800"/>
            <a:ext cx="19248480" cy="234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200" y="1207800"/>
            <a:ext cx="192484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77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312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2480" y="7085160"/>
            <a:ext cx="9393120" cy="175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069200" y="16257960"/>
            <a:ext cx="939312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9200" y="1207800"/>
            <a:ext cx="192484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77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3120" cy="175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0932480" y="7085160"/>
            <a:ext cx="939312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932480" y="16257960"/>
            <a:ext cx="939312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9200" y="1207800"/>
            <a:ext cx="192484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77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9200" y="7085160"/>
            <a:ext cx="939312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0932480" y="7085160"/>
            <a:ext cx="939312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9200" y="16257960"/>
            <a:ext cx="1924848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053"/>
          <p:cNvSpPr/>
          <p:nvPr/>
        </p:nvSpPr>
        <p:spPr>
          <a:xfrm>
            <a:off x="0" y="2701800"/>
            <a:ext cx="21386880" cy="613080"/>
          </a:xfrm>
          <a:prstGeom prst="rect">
            <a:avLst/>
          </a:prstGeom>
          <a:solidFill>
            <a:srgbClr val="515d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37" name="Rectangle 1052"/>
          <p:cNvSpPr/>
          <p:nvPr/>
        </p:nvSpPr>
        <p:spPr>
          <a:xfrm>
            <a:off x="0" y="0"/>
            <a:ext cx="21386880" cy="2701800"/>
          </a:xfrm>
          <a:prstGeom prst="rect">
            <a:avLst/>
          </a:prstGeom>
          <a:solidFill>
            <a:srgbClr val="0b2a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38" name="Rectangle 1049"/>
          <p:cNvSpPr/>
          <p:nvPr/>
        </p:nvSpPr>
        <p:spPr>
          <a:xfrm>
            <a:off x="2567160" y="2701800"/>
            <a:ext cx="187419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1200" tIns="0" bIns="30600" anchor="ctr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Univers 45 Light"/>
              </a:rPr>
              <a:t>Fakultät Maschinenwesen </a:t>
            </a:r>
            <a:r>
              <a:rPr b="1" lang="de-DE" sz="2600" spc="-1" strike="noStrike">
                <a:solidFill>
                  <a:srgbClr val="ffffff"/>
                </a:solidFill>
                <a:latin typeface="Univers 45 Light"/>
              </a:rPr>
              <a:t>·</a:t>
            </a:r>
            <a:r>
              <a:rPr b="0" lang="de-DE" sz="3000" spc="-1" strike="noStrike">
                <a:solidFill>
                  <a:srgbClr val="ffffff"/>
                </a:solidFill>
                <a:latin typeface="Univers 45 Light"/>
              </a:rPr>
              <a:t> Professur für Technische Logistik</a:t>
            </a:r>
            <a:endParaRPr b="1" lang="en-US" sz="3000" spc="-1" strike="noStrike">
              <a:solidFill>
                <a:srgbClr val="808080"/>
              </a:solidFill>
              <a:latin typeface="Univers 45 Light"/>
            </a:endParaRPr>
          </a:p>
        </p:txBody>
      </p:sp>
      <p:pic>
        <p:nvPicPr>
          <p:cNvPr id="39" name="Picture 1051" descr="TU_Logo_WS"/>
          <p:cNvPicPr/>
          <p:nvPr/>
        </p:nvPicPr>
        <p:blipFill>
          <a:blip r:embed="rId2"/>
          <a:stretch/>
        </p:blipFill>
        <p:spPr>
          <a:xfrm>
            <a:off x="723960" y="817560"/>
            <a:ext cx="5483160" cy="16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User\Wustmann\Organisatorisches_TUDD\Vorlagen\Logo_TLA_2012\transparent\Logo_tla_transparent_weiss_2012.png"/>
          <p:cNvPicPr/>
          <p:nvPr/>
        </p:nvPicPr>
        <p:blipFill>
          <a:blip r:embed="rId3"/>
          <a:srcRect l="4758" t="15172" r="4858" b="11968"/>
          <a:stretch/>
        </p:blipFill>
        <p:spPr>
          <a:xfrm>
            <a:off x="15481440" y="979560"/>
            <a:ext cx="4568760" cy="12888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200" y="1207800"/>
            <a:ext cx="192484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0" lang="en-US" sz="77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77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9200" y="7085160"/>
            <a:ext cx="19248480" cy="175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06640" indent="0">
              <a:spcBef>
                <a:spcPts val="1125"/>
              </a:spcBef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0" lang="en-US" sz="4500" spc="-1" strike="noStrike">
                <a:solidFill>
                  <a:srgbClr val="001d4b"/>
                </a:solidFill>
                <a:latin typeface="Verdana"/>
              </a:rPr>
              <a:t>Click to edit the outline text format</a:t>
            </a: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  <a:p>
            <a:pPr lvl="1" marL="2398680" indent="0">
              <a:spcBef>
                <a:spcPts val="1125"/>
              </a:spcBef>
              <a:tabLst>
                <a:tab algn="l" pos="0"/>
                <a:tab algn="l" pos="2952720"/>
                <a:tab algn="l" pos="5905440"/>
                <a:tab algn="l" pos="8858160"/>
              </a:tabLst>
            </a:pPr>
            <a:r>
              <a:rPr b="0" lang="en-US" sz="4500" spc="-1" strike="noStrike">
                <a:solidFill>
                  <a:srgbClr val="001d4b"/>
                </a:solidFill>
                <a:latin typeface="Verdana"/>
              </a:rPr>
              <a:t>Second Outline Level</a:t>
            </a: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  <a:p>
            <a:pPr lvl="2" marL="3689280" indent="-736560">
              <a:spcBef>
                <a:spcPts val="1125"/>
              </a:spcBef>
              <a:buClr>
                <a:srgbClr val="001d4b"/>
              </a:buClr>
              <a:buFont typeface="Verdana"/>
              <a:buChar char="•"/>
              <a:tabLst>
                <a:tab algn="l" pos="0"/>
                <a:tab algn="l" pos="5905440"/>
                <a:tab algn="l" pos="8858160"/>
              </a:tabLst>
            </a:pPr>
            <a:r>
              <a:rPr b="0" lang="en-US" sz="4500" spc="-1" strike="noStrike">
                <a:solidFill>
                  <a:srgbClr val="001d4b"/>
                </a:solidFill>
                <a:latin typeface="Verdana"/>
              </a:rPr>
              <a:t>Third Outline Level</a:t>
            </a: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  <a:p>
            <a:pPr lvl="3" marL="5165640" indent="-736560">
              <a:spcBef>
                <a:spcPts val="1125"/>
              </a:spcBef>
              <a:buClr>
                <a:srgbClr val="001d4b"/>
              </a:buClr>
              <a:buFont typeface="Verdana"/>
              <a:buChar char="–"/>
              <a:tabLst>
                <a:tab algn="l" pos="0"/>
                <a:tab algn="l" pos="5905440"/>
                <a:tab algn="l" pos="8858160"/>
              </a:tabLst>
            </a:pPr>
            <a:r>
              <a:rPr b="0" lang="en-US" sz="4500" spc="-1" strike="noStrike">
                <a:solidFill>
                  <a:srgbClr val="001d4b"/>
                </a:solidFill>
                <a:latin typeface="Verdana"/>
              </a:rPr>
              <a:t>Fourth Outline Level</a:t>
            </a: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  <a:p>
            <a:pPr lvl="4" marL="6642000" indent="-739800">
              <a:spcBef>
                <a:spcPts val="1125"/>
              </a:spcBef>
              <a:buClr>
                <a:srgbClr val="001d4b"/>
              </a:buClr>
              <a:buFont typeface="Verdana"/>
              <a:buChar char="»"/>
              <a:tabLst>
                <a:tab algn="l" pos="0"/>
                <a:tab algn="l" pos="8858160"/>
              </a:tabLst>
            </a:pPr>
            <a:r>
              <a:rPr b="0" lang="en-US" sz="4500" spc="-1" strike="noStrike">
                <a:solidFill>
                  <a:srgbClr val="001d4b"/>
                </a:solidFill>
                <a:latin typeface="Verdana"/>
              </a:rPr>
              <a:t>Fifth Outline Level</a:t>
            </a: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  <a:p>
            <a:pPr lvl="5" marL="6642000" indent="-739800">
              <a:spcBef>
                <a:spcPts val="1125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1d4b"/>
                </a:solidFill>
                <a:latin typeface="Verdana"/>
              </a:rPr>
              <a:t>Sixth Outline Level</a:t>
            </a: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  <a:p>
            <a:pPr lvl="6" marL="6642000" indent="-739800">
              <a:spcBef>
                <a:spcPts val="1125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1d4b"/>
                </a:solidFill>
                <a:latin typeface="Verdana"/>
              </a:rPr>
              <a:t>Seventh Outline Level</a:t>
            </a:r>
            <a:endParaRPr b="0" lang="en-US" sz="4500" spc="-1" strike="noStrike">
              <a:solidFill>
                <a:srgbClr val="001d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4"/>
          <p:cNvSpPr/>
          <p:nvPr/>
        </p:nvSpPr>
        <p:spPr>
          <a:xfrm>
            <a:off x="0" y="7178760"/>
            <a:ext cx="21386880" cy="272880"/>
          </a:xfrm>
          <a:prstGeom prst="rect">
            <a:avLst/>
          </a:prstGeom>
          <a:solidFill>
            <a:srgbClr val="c4c4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2567160" y="4025880"/>
            <a:ext cx="1036476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600" bIns="306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de-DE" sz="4800" spc="-1" strike="noStrike">
                <a:solidFill>
                  <a:srgbClr val="001d4b"/>
                </a:solidFill>
                <a:latin typeface="DIN-Bold"/>
              </a:rPr>
              <a:t>THEMA  DER  ARBEIT (DIN Bold 48)</a:t>
            </a:r>
            <a:endParaRPr b="1" lang="en-US" sz="4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2567160" y="5183280"/>
            <a:ext cx="829944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600" bIns="306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Diplomand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: Vorname Name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Betreuer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: Herr X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Betreuender HSL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: Prof. Dr.-Ing. habil. T. Schmidt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2567160" y="8607600"/>
            <a:ext cx="8928000" cy="7313760"/>
          </a:xfrm>
          <a:prstGeom prst="rect">
            <a:avLst/>
          </a:prstGeom>
          <a:noFill/>
          <a:ln w="93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0600" bIns="306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11799720" y="8607600"/>
            <a:ext cx="8256600" cy="6460560"/>
          </a:xfrm>
          <a:prstGeom prst="rect">
            <a:avLst/>
          </a:prstGeom>
          <a:noFill/>
          <a:ln w="93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0600" bIns="306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 Das ist der Fließtext... Univers 45 Light / 28. Das ist der Fließ-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-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-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11804760" y="4300560"/>
            <a:ext cx="6056280" cy="26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173160" indent="-173160"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Persönliche Daten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  <a:p>
            <a:pPr marL="173160" indent="-173160">
              <a:buClr>
                <a:srgbClr val="000000"/>
              </a:buClr>
              <a:buFont typeface="Univers 45 Light"/>
              <a:buChar char="-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geb. am: 22.04.1980 in Mittweida/Sa.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  <a:p>
            <a:pPr marL="173160" indent="-173160">
              <a:buClr>
                <a:srgbClr val="000000"/>
              </a:buClr>
              <a:buFont typeface="Univers 45 Light"/>
              <a:buChar char="-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Schulbesuch: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  <a:p>
            <a:pPr lvl="1" marL="431640">
              <a:lnSpc>
                <a:spcPct val="100000"/>
              </a:lnSpc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  <a:ea typeface="Arial"/>
              </a:rPr>
              <a:t>1995 - 2001 Gymnasium Zwickau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  <a:p>
            <a:pPr marL="173160" indent="-173160">
              <a:buClr>
                <a:srgbClr val="000000"/>
              </a:buClr>
              <a:buFont typeface="Univers 45 Light"/>
              <a:buChar char="-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Studium: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  <a:p>
            <a:pPr lvl="1" marL="431640">
              <a:lnSpc>
                <a:spcPct val="100000"/>
              </a:lnSpc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  <a:ea typeface="Arial"/>
              </a:rPr>
              <a:t>2002 – 2008 TU Dresden: Allgemeiner und konstruktiver Maschinenbau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85" name="Rectangle 35"/>
          <p:cNvSpPr/>
          <p:nvPr/>
        </p:nvSpPr>
        <p:spPr>
          <a:xfrm>
            <a:off x="2567160" y="7893000"/>
            <a:ext cx="9057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4000" spc="-1" strike="noStrike">
                <a:solidFill>
                  <a:srgbClr val="0b2a51"/>
                </a:solidFill>
                <a:latin typeface="DIN-Bold"/>
              </a:rPr>
              <a:t>AUFGABENSTELLUNG (DIN_Bold 40)</a:t>
            </a:r>
            <a:endParaRPr b="1" lang="en-US" sz="40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86" name="Rectangle 36"/>
          <p:cNvSpPr/>
          <p:nvPr/>
        </p:nvSpPr>
        <p:spPr>
          <a:xfrm>
            <a:off x="2670480" y="15075000"/>
            <a:ext cx="6849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4000" spc="-1" strike="noStrike">
                <a:solidFill>
                  <a:srgbClr val="0b2a51"/>
                </a:solidFill>
                <a:latin typeface="DIN-Bold"/>
              </a:rPr>
              <a:t>LÖSUNGSWEG (DIN_Bold 40)</a:t>
            </a:r>
            <a:endParaRPr b="1" lang="en-US" sz="40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87" name="Rectangle 38"/>
          <p:cNvSpPr/>
          <p:nvPr/>
        </p:nvSpPr>
        <p:spPr>
          <a:xfrm>
            <a:off x="11625120" y="4289400"/>
            <a:ext cx="8475840" cy="2652840"/>
          </a:xfrm>
          <a:prstGeom prst="rect">
            <a:avLst/>
          </a:prstGeom>
          <a:noFill/>
          <a:ln w="93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88" name="Text Box 42"/>
          <p:cNvSpPr/>
          <p:nvPr/>
        </p:nvSpPr>
        <p:spPr>
          <a:xfrm>
            <a:off x="2567160" y="15771960"/>
            <a:ext cx="8928000" cy="6478200"/>
          </a:xfrm>
          <a:prstGeom prst="rect">
            <a:avLst/>
          </a:prstGeom>
          <a:noFill/>
          <a:ln w="93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0600" bIns="306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Weitere Hinweise: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749"/>
              </a:spcBef>
              <a:buClr>
                <a:srgbClr val="0b2a51"/>
              </a:buClr>
              <a:buFont typeface="Univers 45 Light"/>
              <a:buChar char="-"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Wenige plakative Bilder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buClr>
                <a:srgbClr val="0b2a51"/>
              </a:buClr>
              <a:buFont typeface="Univers 45 Light"/>
              <a:buChar char="-"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Grafiken, Diagramme u. Tabellen: min. Schriftgröße 20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buClr>
                <a:srgbClr val="0b2a51"/>
              </a:buClr>
              <a:buFont typeface="Univers 45 Light"/>
              <a:buChar char="-"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Die Rahmen der Textblöcke entfernen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89" name="Text Box 43"/>
          <p:cNvSpPr/>
          <p:nvPr/>
        </p:nvSpPr>
        <p:spPr>
          <a:xfrm>
            <a:off x="18073800" y="4289400"/>
            <a:ext cx="2016000" cy="266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Univers 45 Light"/>
              </a:rPr>
              <a:t>Bild Diplomand</a:t>
            </a:r>
            <a:endParaRPr b="1" lang="en-US" sz="20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0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0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0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0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Univers 45 Light"/>
              </a:rPr>
              <a:t>ca. 7,4 cm hoch</a:t>
            </a:r>
            <a:endParaRPr b="1" lang="en-US" sz="2000" spc="-1" strike="noStrike">
              <a:solidFill>
                <a:srgbClr val="808080"/>
              </a:solidFill>
              <a:latin typeface="Univers 45 Light"/>
            </a:endParaRPr>
          </a:p>
        </p:txBody>
      </p:sp>
      <p:pic>
        <p:nvPicPr>
          <p:cNvPr id="90" name="Picture 45" descr="Transportsystem"/>
          <p:cNvPicPr/>
          <p:nvPr/>
        </p:nvPicPr>
        <p:blipFill>
          <a:blip r:embed="rId1"/>
          <a:stretch/>
        </p:blipFill>
        <p:spPr>
          <a:xfrm>
            <a:off x="11810880" y="15771960"/>
            <a:ext cx="8245440" cy="5438520"/>
          </a:xfrm>
          <a:prstGeom prst="rect">
            <a:avLst/>
          </a:prstGeom>
          <a:ln w="0">
            <a:noFill/>
          </a:ln>
        </p:spPr>
      </p:pic>
      <p:sp>
        <p:nvSpPr>
          <p:cNvPr id="91" name="Line 46"/>
          <p:cNvSpPr/>
          <p:nvPr/>
        </p:nvSpPr>
        <p:spPr>
          <a:xfrm flipV="1">
            <a:off x="6581880" y="18951480"/>
            <a:ext cx="4967280" cy="95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808080"/>
              </a:solidFill>
              <a:latin typeface="Univers 45 Light"/>
            </a:endParaRPr>
          </a:p>
        </p:txBody>
      </p:sp>
      <p:pic>
        <p:nvPicPr>
          <p:cNvPr id="92" name="Picture 18" descr=""/>
          <p:cNvPicPr/>
          <p:nvPr/>
        </p:nvPicPr>
        <p:blipFill>
          <a:blip r:embed="rId2"/>
          <a:srcRect l="18670" t="7447" r="61921" b="51462"/>
          <a:stretch/>
        </p:blipFill>
        <p:spPr>
          <a:xfrm>
            <a:off x="11799720" y="21832920"/>
            <a:ext cx="8256600" cy="59594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7"/>
          <p:cNvSpPr/>
          <p:nvPr/>
        </p:nvSpPr>
        <p:spPr>
          <a:xfrm>
            <a:off x="2567160" y="21832920"/>
            <a:ext cx="8997840" cy="48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b2a51"/>
                </a:solidFill>
                <a:latin typeface="DIN-Bold"/>
              </a:rPr>
              <a:t>ERGEBNISSE (DIN_Bold 40)</a:t>
            </a:r>
            <a:endParaRPr b="1" lang="en-US" sz="40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DIN-Bold"/>
              </a:rPr>
              <a:t>ACHTUNG: Die Schriftarten Univers 45 Light und DIN_Bold sind ggf. auf Ihrem PC nicht installiert! Selbst wenn als Schriftart die entsprechende angezeigt wird muss es die dargestellte nicht sein. Vergleichen Sie mit dem Beispielbild:</a:t>
            </a:r>
            <a:endParaRPr b="1" lang="en-US" sz="4000" spc="-1" strike="noStrike">
              <a:solidFill>
                <a:srgbClr val="808080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5"/>
          <p:cNvSpPr/>
          <p:nvPr/>
        </p:nvSpPr>
        <p:spPr>
          <a:xfrm>
            <a:off x="18148320" y="5067360"/>
            <a:ext cx="1908000" cy="2520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spcBef>
                <a:spcPts val="118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900" spc="-1" strike="noStrike">
                <a:solidFill>
                  <a:srgbClr val="ffffff"/>
                </a:solidFill>
                <a:latin typeface="Univers 45 Light"/>
              </a:rPr>
              <a:t>Bild Diplomand</a:t>
            </a:r>
            <a:endParaRPr b="1" lang="en-US" sz="19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18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19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18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19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18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19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18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19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18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900" spc="-1" strike="noStrike">
                <a:solidFill>
                  <a:srgbClr val="ffffff"/>
                </a:solidFill>
                <a:latin typeface="Univers 45 Light"/>
              </a:rPr>
              <a:t>ca. 7,4 cm hoch</a:t>
            </a:r>
            <a:endParaRPr b="1" lang="en-US" sz="19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7859880"/>
            <a:ext cx="21386880" cy="272880"/>
          </a:xfrm>
          <a:prstGeom prst="rect">
            <a:avLst/>
          </a:prstGeom>
          <a:solidFill>
            <a:srgbClr val="c4c4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567160" y="4025880"/>
            <a:ext cx="15465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600" bIns="306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de-DE" sz="4800" spc="-1" strike="noStrike">
                <a:solidFill>
                  <a:srgbClr val="001d4b"/>
                </a:solidFill>
                <a:latin typeface="DIN-Bold"/>
              </a:rPr>
              <a:t>THEMA  DER  ARBEIT (DIN Bold 48) IST SEHR LANG UND DESHALB ZWEIZEILIG</a:t>
            </a:r>
            <a:endParaRPr b="1" lang="en-US" sz="4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567160" y="5818320"/>
            <a:ext cx="818820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600" bIns="306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Diplomand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: Vorname Name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Betreuer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: Herr X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272880"/>
                <a:tab algn="l" pos="546120"/>
                <a:tab algn="l" pos="819000"/>
                <a:tab algn="l" pos="1092240"/>
                <a:tab algn="l" pos="1365120"/>
                <a:tab algn="l" pos="1638360"/>
                <a:tab algn="l" pos="1911240"/>
                <a:tab algn="l" pos="2184480"/>
                <a:tab algn="l" pos="2457360"/>
                <a:tab algn="l" pos="2730600"/>
                <a:tab algn="l" pos="3003480"/>
                <a:tab algn="l" pos="3276720"/>
                <a:tab algn="l" pos="3549600"/>
                <a:tab algn="l" pos="3822840"/>
                <a:tab algn="l" pos="4095720"/>
                <a:tab algn="l" pos="4368960"/>
                <a:tab algn="l" pos="4641840"/>
                <a:tab algn="l" pos="4915080"/>
                <a:tab algn="l" pos="5187960"/>
                <a:tab algn="l" pos="546084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Betreuender HSL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Univers 45 Light"/>
              </a:rPr>
              <a:t>: Prof. Dr.-Ing. habil. T. Schmidt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67160" y="9220320"/>
            <a:ext cx="8928000" cy="6887160"/>
          </a:xfrm>
          <a:prstGeom prst="rect">
            <a:avLst/>
          </a:prstGeom>
          <a:noFill/>
          <a:ln w="93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0600" bIns="306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1773080" y="9220320"/>
            <a:ext cx="8283240" cy="6460560"/>
          </a:xfrm>
          <a:prstGeom prst="rect">
            <a:avLst/>
          </a:prstGeom>
          <a:noFill/>
          <a:ln w="93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0600" bIns="306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-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-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808080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-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1258640" y="5311800"/>
            <a:ext cx="6892920" cy="26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marL="173160" indent="-173160"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Persönliche Daten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  <a:p>
            <a:pPr marL="173160" indent="-173160">
              <a:buClr>
                <a:srgbClr val="000000"/>
              </a:buClr>
              <a:buFont typeface="Univers 45 Light"/>
              <a:buChar char="-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geb. am: 22.04.1980 in Mittweida/Sa.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  <a:p>
            <a:pPr marL="173160" indent="-173160">
              <a:buClr>
                <a:srgbClr val="000000"/>
              </a:buClr>
              <a:buFont typeface="Univers 45 Light"/>
              <a:buChar char="-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Schule: 1995 - 2001 Gymnasium Zwickau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  <a:p>
            <a:pPr marL="173160" indent="-173160">
              <a:buClr>
                <a:srgbClr val="000000"/>
              </a:buClr>
              <a:buFont typeface="Univers 45 Light"/>
              <a:buChar char="-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Studium: 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  <a:p>
            <a:pPr marL="173160" indent="-173160"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2002 – 2005 RWTH Aachen: Betriebswirtschaft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  <a:p>
            <a:pPr marL="173160" indent="-173160"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Univers 45 Light"/>
              </a:rPr>
              <a:t>2005 – 2008 TU Dresden: Materialflusstechnik</a:t>
            </a:r>
            <a:endParaRPr b="1" lang="en-US" sz="24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814840" y="8381880"/>
            <a:ext cx="852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4000" spc="-1" strike="noStrike">
                <a:solidFill>
                  <a:srgbClr val="0b2a51"/>
                </a:solidFill>
                <a:latin typeface="DIN-Bold"/>
              </a:rPr>
              <a:t>AUFGABENSTELLUNG (DIN_Bold 40)</a:t>
            </a:r>
            <a:endParaRPr b="1" lang="en-US" sz="40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2767320" y="15322680"/>
            <a:ext cx="6849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4000" spc="-1" strike="noStrike">
                <a:solidFill>
                  <a:srgbClr val="0b2a51"/>
                </a:solidFill>
                <a:latin typeface="DIN-Bold"/>
              </a:rPr>
              <a:t>LÖSUNGSWEG (DIN_Bold 40)</a:t>
            </a:r>
            <a:endParaRPr b="1" lang="en-US" sz="40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2718000" y="21945600"/>
            <a:ext cx="6357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4000" spc="-1" strike="noStrike">
                <a:solidFill>
                  <a:srgbClr val="0b2a51"/>
                </a:solidFill>
                <a:latin typeface="DIN-Bold"/>
              </a:rPr>
              <a:t>ERGEBNISSE (DIN_Bold 40)</a:t>
            </a:r>
            <a:endParaRPr b="1" lang="en-US" sz="40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104" name="Text Box 43"/>
          <p:cNvSpPr/>
          <p:nvPr/>
        </p:nvSpPr>
        <p:spPr>
          <a:xfrm>
            <a:off x="2567160" y="22645800"/>
            <a:ext cx="8928000" cy="492120"/>
          </a:xfrm>
          <a:prstGeom prst="rect">
            <a:avLst/>
          </a:prstGeom>
          <a:noFill/>
          <a:ln w="93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endParaRPr b="1" lang="en-US" sz="2600" spc="-1" strike="noStrike">
              <a:solidFill>
                <a:srgbClr val="808080"/>
              </a:solidFill>
              <a:latin typeface="Univers 45 Light"/>
            </a:endParaRPr>
          </a:p>
        </p:txBody>
      </p:sp>
      <p:sp>
        <p:nvSpPr>
          <p:cNvPr id="105" name="Text Box 44"/>
          <p:cNvSpPr/>
          <p:nvPr/>
        </p:nvSpPr>
        <p:spPr>
          <a:xfrm>
            <a:off x="2567160" y="16229160"/>
            <a:ext cx="8928000" cy="6478200"/>
          </a:xfrm>
          <a:prstGeom prst="rect">
            <a:avLst/>
          </a:prstGeom>
          <a:noFill/>
          <a:ln w="936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0600" bIns="306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 Light / 28. Das ist der Fließtext... Univers 45 Light / 28.</a:t>
            </a: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Das ist der Fließtext... Univers 45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749"/>
              </a:spcBef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Weitere Hinweise: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spcBef>
                <a:spcPts val="1749"/>
              </a:spcBef>
              <a:buClr>
                <a:srgbClr val="0b2a51"/>
              </a:buClr>
              <a:buFont typeface="Univers 45 Light"/>
              <a:buChar char="-"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Wenige plakative Bilder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buClr>
                <a:srgbClr val="0b2a51"/>
              </a:buClr>
              <a:buFont typeface="Univers 45 Light"/>
              <a:buChar char="-"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Grafiken, Diagramme u. Tabellen: min. Schriftgröße 20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  <a:p>
            <a:pPr>
              <a:buClr>
                <a:srgbClr val="0b2a51"/>
              </a:buClr>
              <a:buFont typeface="Univers 45 Light"/>
              <a:buChar char="-"/>
              <a:tabLst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de-DE" sz="2800" spc="-1" strike="noStrike">
                <a:solidFill>
                  <a:srgbClr val="0b2a51"/>
                </a:solidFill>
                <a:latin typeface="Univers 45 Light"/>
              </a:rPr>
              <a:t> </a:t>
            </a:r>
            <a:r>
              <a:rPr b="1" lang="de-DE" sz="2800" spc="-1" strike="noStrike">
                <a:solidFill>
                  <a:srgbClr val="0b2a51"/>
                </a:solidFill>
                <a:latin typeface="Univers 45 Light"/>
              </a:rPr>
              <a:t>Die Rahmen der Textblöcke entfernen</a:t>
            </a:r>
            <a:endParaRPr b="1" lang="en-US" sz="2800" spc="-1" strike="noStrike">
              <a:solidFill>
                <a:srgbClr val="808080"/>
              </a:solidFill>
              <a:latin typeface="Univers 45 Light"/>
            </a:endParaRPr>
          </a:p>
        </p:txBody>
      </p:sp>
      <p:pic>
        <p:nvPicPr>
          <p:cNvPr id="106" name="Picture 49" descr="Grafik_pazat"/>
          <p:cNvPicPr/>
          <p:nvPr/>
        </p:nvPicPr>
        <p:blipFill>
          <a:blip r:embed="rId1"/>
          <a:stretch/>
        </p:blipFill>
        <p:spPr>
          <a:xfrm>
            <a:off x="11773080" y="15165360"/>
            <a:ext cx="7943760" cy="6205680"/>
          </a:xfrm>
          <a:prstGeom prst="rect">
            <a:avLst/>
          </a:prstGeom>
          <a:ln w="0">
            <a:noFill/>
          </a:ln>
        </p:spPr>
      </p:pic>
      <p:sp>
        <p:nvSpPr>
          <p:cNvPr id="107" name="Line 50"/>
          <p:cNvSpPr/>
          <p:nvPr/>
        </p:nvSpPr>
        <p:spPr>
          <a:xfrm flipV="1">
            <a:off x="10148760" y="19688040"/>
            <a:ext cx="2452680" cy="140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808080"/>
              </a:solidFill>
              <a:latin typeface="Univers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4:51:54Z</dcterms:created>
  <dc:creator>CD-Polizei</dc:creator>
  <dc:description/>
  <dc:language>en-US</dc:language>
  <cp:lastModifiedBy>Wustmann, David</cp:lastModifiedBy>
  <dcterms:modified xsi:type="dcterms:W3CDTF">2012-09-19T07:56:02Z</dcterms:modified>
  <cp:revision>32</cp:revision>
  <dc:subject/>
  <dc:title>PowerPoint-Präsentation 2003</dc:title>
</cp:coreProperties>
</file>