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22632988" cy="32043688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31480" y="1278360"/>
            <a:ext cx="2036952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31480" y="7498080"/>
            <a:ext cx="203695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131480" y="17205120"/>
            <a:ext cx="203695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31480" y="1278360"/>
            <a:ext cx="2036952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31480" y="7498080"/>
            <a:ext cx="99403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569320" y="7498080"/>
            <a:ext cx="99403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31480" y="17205120"/>
            <a:ext cx="99403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1569320" y="17205120"/>
            <a:ext cx="99403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31480" y="1278360"/>
            <a:ext cx="2036952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31480" y="7498080"/>
            <a:ext cx="655884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018640" y="7498080"/>
            <a:ext cx="655884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5800" y="7498080"/>
            <a:ext cx="655884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31480" y="17205120"/>
            <a:ext cx="655884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8018640" y="17205120"/>
            <a:ext cx="655884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4905800" y="17205120"/>
            <a:ext cx="655884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31480" y="1278360"/>
            <a:ext cx="2036952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31480" y="7498080"/>
            <a:ext cx="2036952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31480" y="1278360"/>
            <a:ext cx="2036952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31480" y="7498080"/>
            <a:ext cx="2036952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31480" y="1278360"/>
            <a:ext cx="2036952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31480" y="7498080"/>
            <a:ext cx="994032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1569320" y="7498080"/>
            <a:ext cx="994032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31480" y="1278360"/>
            <a:ext cx="2036952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31480" y="1278360"/>
            <a:ext cx="20369520" cy="248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31480" y="1278360"/>
            <a:ext cx="2036952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31480" y="7498080"/>
            <a:ext cx="99403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569320" y="7498080"/>
            <a:ext cx="994032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31480" y="17205120"/>
            <a:ext cx="99403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31480" y="1278360"/>
            <a:ext cx="2036952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131480" y="7498080"/>
            <a:ext cx="2036952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31480" y="1278360"/>
            <a:ext cx="2036952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31480" y="7498080"/>
            <a:ext cx="994032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569320" y="7498080"/>
            <a:ext cx="99403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569320" y="17205120"/>
            <a:ext cx="99403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31480" y="1278360"/>
            <a:ext cx="2036952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31480" y="7498080"/>
            <a:ext cx="99403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1569320" y="7498080"/>
            <a:ext cx="99403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31480" y="17205120"/>
            <a:ext cx="203695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31480" y="1278360"/>
            <a:ext cx="2036952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31480" y="7498080"/>
            <a:ext cx="203695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31480" y="17205120"/>
            <a:ext cx="203695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31480" y="1278360"/>
            <a:ext cx="2036952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31480" y="7498080"/>
            <a:ext cx="99403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569320" y="7498080"/>
            <a:ext cx="99403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31480" y="17205120"/>
            <a:ext cx="99403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1569320" y="17205120"/>
            <a:ext cx="99403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31480" y="1278360"/>
            <a:ext cx="2036952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31480" y="7498080"/>
            <a:ext cx="655884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018640" y="7498080"/>
            <a:ext cx="655884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905800" y="7498080"/>
            <a:ext cx="655884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31480" y="17205120"/>
            <a:ext cx="655884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8018640" y="17205120"/>
            <a:ext cx="655884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14905800" y="17205120"/>
            <a:ext cx="655884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31480" y="1278360"/>
            <a:ext cx="2036952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131480" y="7498080"/>
            <a:ext cx="2036952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31480" y="1278360"/>
            <a:ext cx="2036952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31480" y="7498080"/>
            <a:ext cx="994032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1569320" y="7498080"/>
            <a:ext cx="994032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31480" y="1278360"/>
            <a:ext cx="2036952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131480" y="1278360"/>
            <a:ext cx="20369520" cy="248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31480" y="1278360"/>
            <a:ext cx="2036952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31480" y="7498080"/>
            <a:ext cx="99403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569320" y="7498080"/>
            <a:ext cx="994032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131480" y="17205120"/>
            <a:ext cx="99403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31480" y="1278360"/>
            <a:ext cx="2036952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31480" y="7498080"/>
            <a:ext cx="994032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1569320" y="7498080"/>
            <a:ext cx="99403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569320" y="17205120"/>
            <a:ext cx="99403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31480" y="1278360"/>
            <a:ext cx="2036952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31480" y="7498080"/>
            <a:ext cx="99403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1569320" y="7498080"/>
            <a:ext cx="99403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31480" y="17205120"/>
            <a:ext cx="20369520" cy="88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053"/>
          <p:cNvSpPr/>
          <p:nvPr/>
        </p:nvSpPr>
        <p:spPr>
          <a:xfrm>
            <a:off x="0" y="2859120"/>
            <a:ext cx="22631400" cy="647640"/>
          </a:xfrm>
          <a:prstGeom prst="rect">
            <a:avLst/>
          </a:prstGeom>
          <a:solidFill>
            <a:srgbClr val="515d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37" name="Rectangle 1052"/>
          <p:cNvSpPr/>
          <p:nvPr/>
        </p:nvSpPr>
        <p:spPr>
          <a:xfrm>
            <a:off x="0" y="0"/>
            <a:ext cx="22631400" cy="2859120"/>
          </a:xfrm>
          <a:prstGeom prst="rect">
            <a:avLst/>
          </a:prstGeom>
          <a:solidFill>
            <a:srgbClr val="0b2a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38" name="Rectangle 1049"/>
          <p:cNvSpPr/>
          <p:nvPr/>
        </p:nvSpPr>
        <p:spPr>
          <a:xfrm>
            <a:off x="2798640" y="2967120"/>
            <a:ext cx="19832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4800" tIns="0" bIns="324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Univers 45 Light"/>
              </a:rPr>
              <a:t>Fakultät Maschinenwesen</a:t>
            </a:r>
            <a:r>
              <a:rPr b="0" lang="de-DE" sz="3000" spc="-1" strike="noStrike">
                <a:solidFill>
                  <a:srgbClr val="ffffff"/>
                </a:solidFill>
                <a:latin typeface="Univers 45 Light"/>
              </a:rPr>
              <a:t> Professur für Technische Logistik</a:t>
            </a:r>
            <a:endParaRPr b="1" lang="en-US" sz="3000" spc="-1" strike="noStrike">
              <a:solidFill>
                <a:srgbClr val="808080"/>
              </a:solidFill>
              <a:latin typeface="Univers 45 Light"/>
            </a:endParaRPr>
          </a:p>
        </p:txBody>
      </p:sp>
      <p:pic>
        <p:nvPicPr>
          <p:cNvPr id="39" name="Picture 1051" descr="TU_Logo_WS"/>
          <p:cNvPicPr/>
          <p:nvPr/>
        </p:nvPicPr>
        <p:blipFill>
          <a:blip r:embed="rId2"/>
          <a:stretch/>
        </p:blipFill>
        <p:spPr>
          <a:xfrm>
            <a:off x="865080" y="865080"/>
            <a:ext cx="5802480" cy="17067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User\Wustmann\Organisatorisches_TUDD\Vorlagen\Logo_TLA_2012\transparent\Logo_tla_transparent_weiss_2012.png"/>
          <p:cNvPicPr/>
          <p:nvPr/>
        </p:nvPicPr>
        <p:blipFill>
          <a:blip r:embed="rId3"/>
          <a:stretch/>
        </p:blipFill>
        <p:spPr>
          <a:xfrm>
            <a:off x="15282720" y="542880"/>
            <a:ext cx="6618600" cy="2316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31480" y="1278360"/>
            <a:ext cx="20369520" cy="5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en-US" sz="82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8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31480" y="7498080"/>
            <a:ext cx="20369520" cy="185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71440" indent="0">
              <a:spcBef>
                <a:spcPts val="1199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en-US" sz="4800" spc="-1" strike="noStrike">
                <a:solidFill>
                  <a:srgbClr val="001d4b"/>
                </a:solidFill>
                <a:latin typeface="Verdana"/>
              </a:rPr>
              <a:t>Click to edit the outline text format</a:t>
            </a: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  <a:p>
            <a:pPr lvl="1" marL="2538360" indent="0">
              <a:spcBef>
                <a:spcPts val="1199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en-US" sz="4800" spc="-1" strike="noStrike">
                <a:solidFill>
                  <a:srgbClr val="001d4b"/>
                </a:solidFill>
                <a:latin typeface="Verdana"/>
              </a:rPr>
              <a:t>Second Outline Level</a:t>
            </a: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  <a:p>
            <a:pPr lvl="2" marL="3903840" indent="-779760">
              <a:spcBef>
                <a:spcPts val="1199"/>
              </a:spcBef>
              <a:buClr>
                <a:srgbClr val="001d4b"/>
              </a:buClr>
              <a:buFont typeface="Verdana"/>
              <a:buChar char="•"/>
              <a:tabLst>
                <a:tab algn="l" pos="0"/>
                <a:tab algn="l" pos="6248520"/>
                <a:tab algn="l" pos="9372600"/>
              </a:tabLst>
            </a:pPr>
            <a:r>
              <a:rPr b="0" lang="en-US" sz="4800" spc="-1" strike="noStrike">
                <a:solidFill>
                  <a:srgbClr val="001d4b"/>
                </a:solidFill>
                <a:latin typeface="Verdana"/>
              </a:rPr>
              <a:t>Third Outline Level</a:t>
            </a: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  <a:p>
            <a:pPr lvl="3" marL="5465880" indent="-779400">
              <a:spcBef>
                <a:spcPts val="1199"/>
              </a:spcBef>
              <a:buClr>
                <a:srgbClr val="001d4b"/>
              </a:buClr>
              <a:buFont typeface="Verdana"/>
              <a:buChar char="–"/>
              <a:tabLst>
                <a:tab algn="l" pos="0"/>
                <a:tab algn="l" pos="6248520"/>
                <a:tab algn="l" pos="9372600"/>
              </a:tabLst>
            </a:pPr>
            <a:r>
              <a:rPr b="0" lang="en-US" sz="4800" spc="-1" strike="noStrike">
                <a:solidFill>
                  <a:srgbClr val="001d4b"/>
                </a:solidFill>
                <a:latin typeface="Verdana"/>
              </a:rPr>
              <a:t>Fourth Outline Level</a:t>
            </a: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  <a:p>
            <a:pPr lvl="4" marL="7029360" indent="-784080">
              <a:spcBef>
                <a:spcPts val="1199"/>
              </a:spcBef>
              <a:buClr>
                <a:srgbClr val="001d4b"/>
              </a:buClr>
              <a:buFont typeface="Verdana"/>
              <a:buChar char="»"/>
              <a:tabLst>
                <a:tab algn="l" pos="0"/>
                <a:tab algn="l" pos="9372600"/>
              </a:tabLst>
            </a:pPr>
            <a:r>
              <a:rPr b="0" lang="en-US" sz="4800" spc="-1" strike="noStrike">
                <a:solidFill>
                  <a:srgbClr val="001d4b"/>
                </a:solidFill>
                <a:latin typeface="Verdana"/>
              </a:rPr>
              <a:t>Fifth Outline Level</a:t>
            </a: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  <a:p>
            <a:pPr lvl="5" marL="7029360" indent="-78408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1d4b"/>
                </a:solidFill>
                <a:latin typeface="Verdana"/>
              </a:rPr>
              <a:t>Sixth Outline Level</a:t>
            </a: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  <a:p>
            <a:pPr lvl="6" marL="7029360" indent="-784080">
              <a:spcBef>
                <a:spcPts val="11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1d4b"/>
                </a:solidFill>
                <a:latin typeface="Verdana"/>
              </a:rPr>
              <a:t>Seventh Outline Level</a:t>
            </a:r>
            <a:endParaRPr b="0" lang="en-US" sz="48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8" descr=""/>
          <p:cNvPicPr/>
          <p:nvPr/>
        </p:nvPicPr>
        <p:blipFill>
          <a:blip r:embed="rId1"/>
          <a:srcRect l="18670" t="7447" r="61921" b="51462"/>
          <a:stretch/>
        </p:blipFill>
        <p:spPr>
          <a:xfrm>
            <a:off x="12336480" y="22213800"/>
            <a:ext cx="9213840" cy="66502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4"/>
          <p:cNvSpPr/>
          <p:nvPr/>
        </p:nvSpPr>
        <p:spPr>
          <a:xfrm>
            <a:off x="0" y="7596360"/>
            <a:ext cx="22631400" cy="288720"/>
          </a:xfrm>
          <a:prstGeom prst="rect">
            <a:avLst/>
          </a:prstGeom>
          <a:solidFill>
            <a:srgbClr val="c4c4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2798640" y="4260960"/>
            <a:ext cx="13255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2400" bIns="324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4800" spc="-1" strike="noStrike">
                <a:solidFill>
                  <a:srgbClr val="001d4b"/>
                </a:solidFill>
                <a:latin typeface="DIN-Bold"/>
              </a:rPr>
              <a:t>THEMA  DER  ARBEIT (DIN Bold 48)</a:t>
            </a:r>
            <a:endParaRPr b="1" lang="en-US" sz="4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2819520" y="5435640"/>
            <a:ext cx="835164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2400" bIns="324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Diplomand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: Vorname Name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Betreuer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: Herr X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Betreuender HSL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: Prof. Dr.-Ing. habil. T. Schmidt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2819520" y="9109080"/>
            <a:ext cx="8997840" cy="6119640"/>
          </a:xfrm>
          <a:prstGeom prst="rect">
            <a:avLst/>
          </a:prstGeom>
          <a:noFill/>
          <a:ln w="936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2400" bIns="324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12539520" y="9109080"/>
            <a:ext cx="8998200" cy="5616720"/>
          </a:xfrm>
          <a:prstGeom prst="rect">
            <a:avLst/>
          </a:prstGeom>
          <a:noFill/>
          <a:ln w="936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2400" bIns="324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 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12899880" y="4427640"/>
            <a:ext cx="64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Persönliche Daten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  <a:p>
            <a:pPr marL="182520" indent="-182520">
              <a:buClr>
                <a:srgbClr val="000000"/>
              </a:buClr>
              <a:buFont typeface="Univers 45 Light"/>
              <a:buChar char="-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geb. am: 22.04.1980 in Mittweida/Sa.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  <a:p>
            <a:pPr marL="182520" indent="-182520">
              <a:buClr>
                <a:srgbClr val="000000"/>
              </a:buClr>
              <a:buFont typeface="Univers 45 Light"/>
              <a:buChar char="-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Schulbesuch: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1995 - 2001 Gymnasium Zwickau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  <a:p>
            <a:pPr marL="182520" indent="-182520">
              <a:buClr>
                <a:srgbClr val="000000"/>
              </a:buClr>
              <a:buFont typeface="Univers 45 Light"/>
              <a:buChar char="-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Studium: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2002 – 2008 TU Dresden: Allgemeiner und konstruktiver Maschinenbau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86" name="Rectangle 35"/>
          <p:cNvSpPr/>
          <p:nvPr/>
        </p:nvSpPr>
        <p:spPr>
          <a:xfrm>
            <a:off x="2797560" y="8247240"/>
            <a:ext cx="85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b2a51"/>
                </a:solidFill>
                <a:latin typeface="DIN-Bold"/>
              </a:rPr>
              <a:t>AUFGABENSTELLUNG (DIN_Bold 40)</a:t>
            </a:r>
            <a:endParaRPr b="1" lang="en-US" sz="40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2738880" y="15733800"/>
            <a:ext cx="6849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b2a51"/>
                </a:solidFill>
                <a:latin typeface="DIN-Bold"/>
              </a:rPr>
              <a:t>LÖSUNGSWEG (DIN_Bold 40)</a:t>
            </a:r>
            <a:endParaRPr b="1" lang="en-US" sz="40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88" name="Rectangle 38"/>
          <p:cNvSpPr/>
          <p:nvPr/>
        </p:nvSpPr>
        <p:spPr>
          <a:xfrm>
            <a:off x="12539520" y="4427640"/>
            <a:ext cx="9001440" cy="2663640"/>
          </a:xfrm>
          <a:prstGeom prst="rect">
            <a:avLst/>
          </a:prstGeom>
          <a:noFill/>
          <a:ln w="936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2819520" y="16597440"/>
            <a:ext cx="8997840" cy="5184720"/>
          </a:xfrm>
          <a:prstGeom prst="rect">
            <a:avLst/>
          </a:prstGeom>
          <a:noFill/>
          <a:ln w="936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2400" bIns="324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1" lang="de-DE" sz="2800" spc="-1" strike="noStrike">
                <a:solidFill>
                  <a:srgbClr val="0b2a51"/>
                </a:solidFill>
                <a:latin typeface="Univers 45 Light"/>
              </a:rPr>
              <a:t>Weitere Hinweise: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749"/>
              </a:spcBef>
              <a:buClr>
                <a:srgbClr val="0b2a51"/>
              </a:buClr>
              <a:buFont typeface="Univers 45 Light"/>
              <a:buChar char="-"/>
              <a:tabLst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Wenige plakative Bilder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buClr>
                <a:srgbClr val="0b2a51"/>
              </a:buClr>
              <a:buFont typeface="Univers 45 Light"/>
              <a:buChar char="-"/>
              <a:tabLst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Grafiken, Diagramme u. Tabellen: min. Schriftgröße 20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buClr>
                <a:srgbClr val="0b2a51"/>
              </a:buClr>
              <a:buFont typeface="Univers 45 Light"/>
              <a:buChar char="-"/>
              <a:tabLst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ie Rahmen der Textblöcke entfernen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90" name="Text Box 43"/>
          <p:cNvSpPr/>
          <p:nvPr/>
        </p:nvSpPr>
        <p:spPr>
          <a:xfrm>
            <a:off x="19534320" y="4416480"/>
            <a:ext cx="2016000" cy="2663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Univers 45 Light"/>
              </a:rPr>
              <a:t>Bild Diplomand</a:t>
            </a:r>
            <a:endParaRPr b="1" lang="en-US" sz="20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Univers 45 Light"/>
              </a:rPr>
              <a:t>ca. 7,4 cm hoch</a:t>
            </a:r>
            <a:endParaRPr b="1" lang="en-US" sz="2000" spc="-1" strike="noStrike">
              <a:solidFill>
                <a:srgbClr val="808080"/>
              </a:solidFill>
              <a:latin typeface="Univers 45 Light"/>
            </a:endParaRPr>
          </a:p>
        </p:txBody>
      </p:sp>
      <p:pic>
        <p:nvPicPr>
          <p:cNvPr id="91" name="Picture 45" descr="Transportsystem"/>
          <p:cNvPicPr/>
          <p:nvPr/>
        </p:nvPicPr>
        <p:blipFill>
          <a:blip r:embed="rId2"/>
          <a:stretch/>
        </p:blipFill>
        <p:spPr>
          <a:xfrm>
            <a:off x="12539520" y="15300360"/>
            <a:ext cx="9001440" cy="6003720"/>
          </a:xfrm>
          <a:prstGeom prst="rect">
            <a:avLst/>
          </a:prstGeom>
          <a:ln w="0">
            <a:noFill/>
          </a:ln>
        </p:spPr>
      </p:pic>
      <p:sp>
        <p:nvSpPr>
          <p:cNvPr id="92" name="Line 46"/>
          <p:cNvSpPr/>
          <p:nvPr/>
        </p:nvSpPr>
        <p:spPr>
          <a:xfrm flipV="1">
            <a:off x="7067520" y="19550160"/>
            <a:ext cx="5256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93" name="Rectangle 37"/>
          <p:cNvSpPr/>
          <p:nvPr/>
        </p:nvSpPr>
        <p:spPr>
          <a:xfrm>
            <a:off x="2819520" y="22213800"/>
            <a:ext cx="8997840" cy="54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b2a51"/>
                </a:solidFill>
                <a:latin typeface="DIN-Bold"/>
              </a:rPr>
              <a:t>ERGEBNISSE (DIN_Bold 40)</a:t>
            </a:r>
            <a:endParaRPr b="1" lang="en-US" sz="40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DIN-Bold"/>
              </a:rPr>
              <a:t>ACHTUNG: Die Schriftarten Univers 45 Light und DIN_Bold sind ggf. auf Ihrem PC</a:t>
            </a:r>
            <a:endParaRPr b="1" lang="en-US" sz="40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DIN-Bold"/>
              </a:rPr>
              <a:t>nicht installiert! Selbst wenn als Schriftart die entsprechende angezeigt wird muss es die dargestellte nicht sein. Vergleichen Sie mit dem Beispielbild:</a:t>
            </a:r>
            <a:endParaRPr b="1" lang="en-US" sz="4000" spc="-1" strike="noStrike">
              <a:solidFill>
                <a:srgbClr val="808080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8317080"/>
            <a:ext cx="22631400" cy="288720"/>
          </a:xfrm>
          <a:prstGeom prst="rect">
            <a:avLst/>
          </a:prstGeom>
          <a:solidFill>
            <a:srgbClr val="c4c4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798640" y="4260960"/>
            <a:ext cx="16365600" cy="15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2400" bIns="324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4800" spc="-1" strike="noStrike">
                <a:solidFill>
                  <a:srgbClr val="001d4b"/>
                </a:solidFill>
                <a:latin typeface="DIN-Bold"/>
              </a:rPr>
              <a:t>THEMA  DER  ARBEIT (DIN Bold 48) IST SEHR LANG UND DESHALB ZWEIZEILIG</a:t>
            </a:r>
            <a:endParaRPr b="1" lang="en-US" sz="4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819520" y="6156360"/>
            <a:ext cx="835164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2400" bIns="324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Diplomand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: Vorname Name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Betreuer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: Herr X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Betreuender HSL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: Prof. Dr.-Ing. habil. T. Schmidt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819520" y="9756720"/>
            <a:ext cx="8997840" cy="6120000"/>
          </a:xfrm>
          <a:prstGeom prst="rect">
            <a:avLst/>
          </a:prstGeom>
          <a:noFill/>
          <a:ln w="936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2400" bIns="324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2539520" y="9756720"/>
            <a:ext cx="8998200" cy="6120000"/>
          </a:xfrm>
          <a:prstGeom prst="rect">
            <a:avLst/>
          </a:prstGeom>
          <a:noFill/>
          <a:ln w="936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2400" bIns="324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 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12539520" y="565164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Persönliche Daten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  <a:p>
            <a:pPr marL="182520" indent="-182520">
              <a:buClr>
                <a:srgbClr val="000000"/>
              </a:buClr>
              <a:buFont typeface="Univers 45 Light"/>
              <a:buChar char="-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geb. am: 22.04.1980 in Mittweida/Sa.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  <a:p>
            <a:pPr marL="182520" indent="-182520">
              <a:buClr>
                <a:srgbClr val="000000"/>
              </a:buClr>
              <a:buFont typeface="Univers 45 Light"/>
              <a:buChar char="-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Schule: 1995 - 2001 Gymnasium Zwickau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  <a:p>
            <a:pPr marL="182520" indent="-182520">
              <a:buClr>
                <a:srgbClr val="000000"/>
              </a:buClr>
              <a:buFont typeface="Univers 45 Light"/>
              <a:buChar char="-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Studium: 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  <a:p>
            <a:pPr marL="182520" indent="-182520"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2002 – 2005 RWTH Aachen: Betriebswirtschaft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  <a:p>
            <a:pPr marL="182520" indent="-182520"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2005 – 2008 TU Dresden: Materialflusstechnik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2797560" y="8894880"/>
            <a:ext cx="85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b2a51"/>
                </a:solidFill>
                <a:latin typeface="DIN-Bold"/>
              </a:rPr>
              <a:t>AUFGABENSTELLUNG (DIN_Bold 40)</a:t>
            </a:r>
            <a:endParaRPr b="1" lang="en-US" sz="40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2738880" y="16239960"/>
            <a:ext cx="6849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b2a51"/>
                </a:solidFill>
                <a:latin typeface="DIN-Bold"/>
              </a:rPr>
              <a:t>LÖSUNGSWEG (DIN_Bold 40)</a:t>
            </a:r>
            <a:endParaRPr b="1" lang="en-US" sz="40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2834640" y="22504320"/>
            <a:ext cx="6357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b2a51"/>
                </a:solidFill>
                <a:latin typeface="DIN-Bold"/>
              </a:rPr>
              <a:t>ERGEBNISSE (DIN_Bold 40)</a:t>
            </a:r>
            <a:endParaRPr b="1" lang="en-US" sz="40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103" name="Text Box 43"/>
          <p:cNvSpPr/>
          <p:nvPr/>
        </p:nvSpPr>
        <p:spPr>
          <a:xfrm>
            <a:off x="2819520" y="23509440"/>
            <a:ext cx="8997840" cy="6119640"/>
          </a:xfrm>
          <a:prstGeom prst="rect">
            <a:avLst/>
          </a:prstGeom>
          <a:noFill/>
          <a:ln w="936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2400" bIns="324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2819520" y="17173440"/>
            <a:ext cx="8997840" cy="4751640"/>
          </a:xfrm>
          <a:prstGeom prst="rect">
            <a:avLst/>
          </a:prstGeom>
          <a:noFill/>
          <a:ln w="936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2400" bIns="324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1" lang="de-DE" sz="2800" spc="-1" strike="noStrike">
                <a:solidFill>
                  <a:srgbClr val="0b2a51"/>
                </a:solidFill>
                <a:latin typeface="Univers 45 Light"/>
              </a:rPr>
              <a:t>Weitere Hinweise: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749"/>
              </a:spcBef>
              <a:buClr>
                <a:srgbClr val="0b2a51"/>
              </a:buClr>
              <a:buFont typeface="Univers 45 Light"/>
              <a:buChar char="-"/>
              <a:tabLst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Wenige plakative Bilder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buClr>
                <a:srgbClr val="0b2a51"/>
              </a:buClr>
              <a:buFont typeface="Univers 45 Light"/>
              <a:buChar char="-"/>
              <a:tabLst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Grafiken, Diagramme u. Tabellen: min. Schriftgröße 20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105" name="Text Box 45"/>
          <p:cNvSpPr/>
          <p:nvPr/>
        </p:nvSpPr>
        <p:spPr>
          <a:xfrm>
            <a:off x="19524600" y="5148360"/>
            <a:ext cx="2016360" cy="2663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Univers 45 Light"/>
              </a:rPr>
              <a:t>Bild Diplomand</a:t>
            </a:r>
            <a:endParaRPr b="1" lang="en-US" sz="20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Univers 45 Light"/>
              </a:rPr>
              <a:t>ca. 7,4 cm hoch</a:t>
            </a:r>
            <a:endParaRPr b="1" lang="en-US" sz="2000" spc="-1" strike="noStrike">
              <a:solidFill>
                <a:srgbClr val="808080"/>
              </a:solidFill>
              <a:latin typeface="Univers 45 Light"/>
            </a:endParaRPr>
          </a:p>
        </p:txBody>
      </p:sp>
      <p:pic>
        <p:nvPicPr>
          <p:cNvPr id="106" name="Picture 49" descr="Grafik_pazat"/>
          <p:cNvPicPr/>
          <p:nvPr/>
        </p:nvPicPr>
        <p:blipFill>
          <a:blip r:embed="rId1"/>
          <a:stretch/>
        </p:blipFill>
        <p:spPr>
          <a:xfrm>
            <a:off x="12828600" y="23221800"/>
            <a:ext cx="8783640" cy="6861240"/>
          </a:xfrm>
          <a:prstGeom prst="rect">
            <a:avLst/>
          </a:prstGeom>
          <a:ln w="0">
            <a:noFill/>
          </a:ln>
        </p:spPr>
      </p:pic>
      <p:sp>
        <p:nvSpPr>
          <p:cNvPr id="107" name="Line 50"/>
          <p:cNvSpPr/>
          <p:nvPr/>
        </p:nvSpPr>
        <p:spPr>
          <a:xfrm>
            <a:off x="10739520" y="21853440"/>
            <a:ext cx="230508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4:51:54Z</dcterms:created>
  <dc:creator>CD-Polizei</dc:creator>
  <dc:description/>
  <dc:language>en-US</dc:language>
  <cp:lastModifiedBy>Wustmann, David</cp:lastModifiedBy>
  <dcterms:modified xsi:type="dcterms:W3CDTF">2012-09-19T07:53:29Z</dcterms:modified>
  <cp:revision>19</cp:revision>
  <dc:subject/>
  <dc:title>PowerPoint-Präsentation</dc:title>
</cp:coreProperties>
</file>